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AB9C-4B71-4BA2-B8B7-BEF81B64F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72C0-F4FC-4729-ACC0-E27A64AE8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A95C-81A8-4872-9E44-5D5613D4E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9EC9-6C22-4381-B5CD-2A70068B4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A31CA-44D6-4DBC-8900-330EDEE34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6089D-B929-4085-9271-A1F4BE1EE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6EA34-A07F-4789-B7E2-584D8D6A4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D3BC8-8000-459E-8245-3A190335D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007B7-8DB8-4995-8175-883A19029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FC76B-CAC5-4973-BBBE-84E539CAD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0C3B1-C3C4-4D81-9213-404F6BFEF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A39F-BD76-4A08-A779-B292D5B99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EBA58-444B-45F2-AE83-A6B999DB7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44E2D-28E8-476D-ACED-2DBDB30FE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684CD-D613-4D63-B1D3-B4B0CC77D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7A63B-1A97-486C-B188-08EF78FD9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07FE9-D749-438A-9429-8B30F00DE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0A3E-A36B-4DF4-A42D-10EE01642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2F21-AC24-419B-82EF-04EE41C76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985D-E9BC-45A8-8BEC-7471F7590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2157-7CD5-466C-863F-997CF6445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0684-793B-479C-9DCA-6F34AC762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5E9B-DB30-420D-AA66-DC00711A5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8EC6-2090-42B3-B2FA-3DF9FF44F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162B5-BBE8-4A1A-9B12-9ACE38B9F837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1E92A-DA0B-4220-AD93-5CF052C66189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Vocabulary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y: Chris and Adria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ercent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umbers of a hundre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dden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ny number used to get the sum or tota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acto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 whole number that divides exaclty into another numbe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 whole that multiplies with another number to make a third numbe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rac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ny part of a group number or whol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scend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rranged from smallest to larges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escend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rranged from largest to smalles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3T20:37:20Z</dcterms:created>
  <dc:creator>christopher.bennett</dc:creator>
  <dc:description/>
  <dc:language>en-US</dc:language>
  <cp:lastModifiedBy>christopher.bennett</cp:lastModifiedBy>
  <dcterms:modified xsi:type="dcterms:W3CDTF">2010-11-23T20:52:30Z</dcterms:modified>
  <cp:revision>2</cp:revision>
  <dc:subject/>
  <dc:title>Vocabulary</dc:title>
</cp:coreProperties>
</file>